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05EF-B14F-4F1D-A5D7-0F402F565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61BA-ABC0-4A2E-BACF-3007D4FF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D80F-A4B3-4C6E-AE8A-40932F8C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A1C4-8CF0-471A-904C-F3401E87D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9122-650A-4407-8E5D-747FE269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5872-1453-41FF-B4CC-59DC7916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2E24-4B47-4381-AF52-6D6A7488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AFEF-62F7-4AE9-A919-DA6E5AF1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96C4-E4B9-43A8-80A7-06DC15B2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CA7F-C80A-4FC9-9D62-5E01A83F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EA04-B7B9-4D8F-973F-B20C2D49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FF9A-4598-4609-A0C3-7B04B269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2F39-6669-4E2E-BC1D-22B75FED7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Intermediate P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2060640"/>
            <a:ext cx="7924680" cy="36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eparation of the Bo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Lesson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Wednesday 26</a:t>
            </a:r>
            <a:r>
              <a:rPr b="1" lang="en-US" sz="4800" spc="-1" strike="noStrike" baseline="30000">
                <a:solidFill>
                  <a:srgbClr val="ffff00"/>
                </a:solidFill>
                <a:latin typeface="Comic Sans MS"/>
              </a:rPr>
              <a:t>th</a:t>
            </a: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 Augu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00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ental Aspects of Fit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095480"/>
            <a:ext cx="86868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Motiv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Comic Sans MS"/>
              </a:rPr>
              <a:t>What drives a performer to improve and succe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00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ental Aspects of Fit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413000"/>
            <a:ext cx="868680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Motivation can be internal or external and is important wh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Training in poor condi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Training when ti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Training when practice is repet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00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ental Aspects of Fit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1447920"/>
            <a:ext cx="86868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Task 1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Complete page 11 of your course no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Time – 5 minu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ental Aspects of Fit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838080"/>
            <a:ext cx="868680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evels of Arous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Relationship Between Arousal and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00200" y="2209680"/>
            <a:ext cx="6248520" cy="3532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28600" y="59436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What can affect levels of arousa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omic Sans MS"/>
              </a:rPr>
              <a:t>Homework Tas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1628640"/>
            <a:ext cx="845820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Answer the following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Q) Physical, skill-related and mental fitness are all required for successful performance.  With reference to your chosen activity, explain why one aspect of each of these types of fitness is important (6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Please complete this on A4 lined paper and hand in on Wednesday 2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Comic Sans MS"/>
              </a:rPr>
              <a:t>nd</a:t>
            </a: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 Septembe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424160"/>
            <a:ext cx="864216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y the end of today’s lesson you  shoul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Know what the 3 different types of fitnes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ave examples of aspects under each type along with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ave examples for why some are important in hocke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ave a number of specific examples for why cardio-respiratory endurance and speed are vital in hoc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Initial tas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676520"/>
            <a:ext cx="7924680" cy="14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278136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eactio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56000" y="378936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evels of arou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56360" y="55166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eter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2924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g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11280" y="530064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uscular End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3789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465300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ardio-respiratory end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3645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59280" y="43657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56000" y="2997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i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27640" y="4869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59640" y="29973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19640" y="47973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43640" y="4005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-ord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00720" y="52293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12682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In your jotter write down the following 3 headings side by side:  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Comic Sans MS"/>
              </a:rPr>
              <a:t>Physical Fitness</a:t>
            </a: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, 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Comic Sans MS"/>
              </a:rPr>
              <a:t>Skill-Related Fitness</a:t>
            </a: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 &amp; 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Comic Sans MS"/>
              </a:rPr>
              <a:t>Mental Fitness</a:t>
            </a: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.  Put the words below under the correct h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616572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If you can think of any other then add them to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1424160"/>
            <a:ext cx="864216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y the end of today’s lesson you  shoul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Know what the 3 different types of fitnes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ave examples of aspects under each type along with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ave examples for why some are important in hocke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ave a number of specific examples for why cardio-respiratory endurance and speed are vital in hoc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Types of Fitnes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676520"/>
            <a:ext cx="7924680" cy="14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557360"/>
            <a:ext cx="8136000" cy="42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are three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type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fitn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hysical Fit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kill-Related Fit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ental Fit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will look at physical fitness in most detail but there are some things you have to know about skill-related and mental fitn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Physical Fit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676520"/>
            <a:ext cx="868680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n hockey the 2 most important aspects of physical fitness for a midfielder ar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ardio-Respiratory endur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pe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*Write down in your jotter the definition for e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Physical Fit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6765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Read page 7 of your course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2565360"/>
            <a:ext cx="86868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ask 1: Discuss with your partner why speed is important to a midfield player.  Try to think of at least 4 reasons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ask 2:  Complete the worksheet on speed. Time – 10 m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Skill-Related Fit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1341360"/>
            <a:ext cx="8686800" cy="47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Read pages 8 &amp; 9 of your course no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Class discussion.  Reasons why agility and timing are importa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ask 3: Complete workbox 3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ime – 10 mi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ental Aspects of Fit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1295280"/>
            <a:ext cx="86868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etermin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Comic Sans MS"/>
              </a:rPr>
              <a:t>The desire to succe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1905120" cy="1484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238880" y="1447920"/>
            <a:ext cx="125892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ental Aspects of Fit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1295280"/>
            <a:ext cx="868680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termination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mportant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ttempting to win a 50:50 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ttempting to reach a ball that is running out of 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atigue sets in and you must continue to maintain a high level of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1905120" cy="1484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238880" y="1447920"/>
            <a:ext cx="125892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10:16:19Z</dcterms:created>
  <dc:creator>CarmichaelMA</dc:creator>
  <dc:description/>
  <dc:language>en-US</dc:language>
  <cp:lastModifiedBy>carmichaelma</cp:lastModifiedBy>
  <dcterms:modified xsi:type="dcterms:W3CDTF">2009-08-26T07:32:10Z</dcterms:modified>
  <cp:revision>12</cp:revision>
  <dc:subject/>
  <dc:title>Intermediate PE</dc:title>
</cp:coreProperties>
</file>